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383-2832-4554-A303-23F20AEB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D5A-1BD1-4839-909E-7D360A84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E1430-3682-44DB-991E-5758C3C3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6BD0A-7764-4DE5-B8BF-C5ECC67C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428DB-85E9-490D-9439-CD18381E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E178D-0E63-4187-BBD6-1BB21E05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69FEC-629C-4C09-84E2-D19C1A62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4B29D-B392-4266-B40F-DD60DB08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CD7A5-FD5B-42EE-9EBF-745180FB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FD721-5245-496B-BF4D-0C646B6F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6A94A-084D-4307-BCB5-4AC08ED9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B70-7B76-477D-99F6-7FB1FC83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F5D-04BF-4A76-BFB9-54E3FD9B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9C50-59D1-49A4-ABBB-468C524E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344B-D490-4FBD-B39D-E4FF1469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A03B-EB55-4413-95E3-F7C06090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C756-DF16-45CB-9D6F-7D0725E5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933A-CE4C-4DD9-80AA-FD0530BF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0040-A86D-4425-A4CC-21A62EA2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11B7-BD25-4000-8121-AEF02D0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4F3-9CDD-4058-B8CC-4F2627BF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F9E8-4493-4061-A259-9315F6B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6F86-5F80-4065-8E4B-0F9152A9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8203-5A42-4EC7-8280-188F648C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05EE-2112-4574-9BBB-3F730867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1F36-21DA-40A6-8AF5-FD89785E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B0756-ABF4-4909-B41C-811E43F3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04FA-902B-4A0C-B6FE-4D6F3997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F150-59EB-46F4-9830-07196E0A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2A47-D3FB-4285-BBA4-D50BBD25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31B90-C202-4EBC-871F-78A89C6B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B62-4A1A-4A32-B84F-018D3D20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F9D8-B33A-49EB-92E9-02B3A412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7627-3F2C-452D-8131-D5D79579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58ED5-8987-44EF-98B4-79897A21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490D-5F92-47D1-851E-FAD06963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3276-CC43-45BE-AA5C-4B7ADC9C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E9BE6-BE0C-49D2-B73F-044E5331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83E6-52B7-4FBC-A891-D63F3442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76363-D8D5-4E3A-8E83-9DF4374A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AC605-A218-46E5-8AD2-4A1CED2F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95834-1D74-4941-9C6E-8633C107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CD1-0E0C-4650-95CF-17D5BAA3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5589-A425-4BB8-BF39-DD410DC6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7606D-AA8C-4CE5-9E43-238B1C7A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E19E0-016B-4816-B44E-050EAC79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4502-8D04-45CE-96D3-D18C6F7F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1604-AAB8-4879-A3D9-B6A7BABA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4CC9-067F-4D59-A856-BF3EBE46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B039-9CBF-44CD-9FB1-344AE6FF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D7B0-025B-4897-93CE-3E7A3896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BE742-854D-4383-B863-4EC0D5C0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D2661-6FD0-46CC-9CDA-70D11998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4CF-13F4-448D-BC33-D20E9F58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5C601-2725-40DA-AD38-913463D1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F68D2-66F2-4CEE-B38D-2C20A2BA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CDBA6-A6A7-4532-880A-44577652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9D839-97D3-406E-B03E-2365C96C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AE817-F0CF-45CC-AD16-BB131861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3FDC-E6DB-44F4-9C36-6BD70E8C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E817C-DFDA-4B7E-9EEA-EE3D2AAC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4C94-7626-4DBF-AD47-0A622D95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94E2A-021A-44BC-80BF-07BE41A9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6CDE7-9658-4496-8862-C0B29191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63A-603F-40B6-8C35-EAFBAFF0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FEC4-DF6B-4395-B7B2-AB82F675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1DADB-8F55-4447-9496-63D9748B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3C6A2-B2F4-47C5-B66E-1E886DD4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91AAE-C6B4-42B2-89EB-0085F3C7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67B54-04EC-473E-8505-3E851D4A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FB4D-5A04-48ED-A3B2-1BF8B669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7EACB-92B0-419E-B55F-286D2366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38030-3E70-4227-A548-4DDBEBE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30701-A497-40CF-B3EA-6182385C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CE1DF-6824-4324-BACC-057EB085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0C7-0691-4ACF-B5B4-4B06C85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7BD20-32D3-4F4B-B7C5-609AAA40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338B2-9311-4858-9067-5F3B948C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2B5E0-2E29-49A5-915C-463BE07A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16729-1168-4CF9-B8E0-AAB7DB4C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64499-DC78-4E1A-AC1F-E3259E22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FD7FD-CF01-4720-9002-DC0DEACD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B8033-7806-40D6-856F-05BBE520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C0147-C253-4054-ACEB-36C282D4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FD4A7-6B42-425D-AFAB-840726CD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F8F5-95E6-4382-A692-443FB58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AE7-44A7-4A3A-A80C-D46434F0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E27CB-B552-48D7-AD21-A881C274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F1479-06BF-4EC1-92BE-D237ABBD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2F11D-4181-4AEE-91EF-6BC50A8E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BC49C-7AA0-4430-9C9A-A66A7009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23B4D-8CE8-4F45-B923-3BDF1A03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8405C-F3A1-463D-880F-3B4A7F45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9938F-70E0-4C2D-AD36-9066BCF1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5175B-403E-4142-9C36-9B8AC6DC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E0321-56E8-418F-8776-965812ED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63DFF-638A-49D8-BFE7-1CD48E86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3BA-A9D9-4350-93A5-7FA36524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D9E33-F3F9-4965-B0E9-BB44340D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5F08C-4C02-47B5-8C69-D2A73C0A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CECBC-2452-4E0F-AB6E-18003D8E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18D48-7588-4798-8BD8-9ECC895A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ADA1C-31AD-419C-AA57-D708A676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9937C-BE68-45F7-8F3A-DA0058E9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23008-E53F-489D-8E1F-E9F92A41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4D046-C0AD-4705-903C-1E928775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AF7D3-8251-4175-9A8E-F8BF323F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F1EC0-415C-4655-A5F7-E09F245A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DC2C-52B7-41EE-8747-82BFBC27D2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1BB2-2A24-46E0-95C4-7DD5C7342EF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A1B8-862C-4A69-8B8C-E31918FF42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5233-6AE7-41A4-8CF0-761BFBCD9B8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6AA9-BF08-46DD-864D-695E12C25B5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FB6A-EA1B-4D62-BA86-23AEAFD1F1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8EA2-C4B2-477F-82BF-1007AC42F8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0CD7-3755-473C-94E5-35E8675EC0B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DD93-2CC2-4B09-81B0-6B9F2D951C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80520" y="642600"/>
            <a:ext cx="8458200" cy="41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ИКТ </a:t>
            </a:r>
            <a:br>
              <a:rPr sz="4400"/>
            </a:br>
            <a:r>
              <a:rPr b="1" lang="ru-RU" sz="4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КАК СРЕДСТВО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ПОВЫШЕНИЯ МОТИВАЦИИ ПРИ ИЗУЧЕНИИ НЕМЕЦКОГО ЯЗЫКА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оме иллюстративности, презентации содержат более современный, чем в учебнике, информационный материал, так как включают в себя данные последних журналов, книг о стране изучаемого язы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500040"/>
            <a:ext cx="868680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пользование готовых (стандартных) цифровых ресурсов и презентаций уместно на любом этапе изучения темы и на любом этапе урока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 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начале урока с помощью вопросов по изучаемой теме создавая проблемную ситуацию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 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этапе объяснения нового материала 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пользуются изображения, видеофрагменты, 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вуковое сопровождение, а также рисунки детей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 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этапе закрепления можно определить уровень усвоения темы, причем на экране показывается 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только задание, но и ответ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 формировании навыков аудирования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качестве опор для обучения монологическому и диалогическому высказыванию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качестве тренажеров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оценки уровня знаний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качестве тестового контроля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езентация по страноведени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ледует забывать, что учитель, учебник и ИКТ - это взаимодополняющие понятия урока. ИКТ вносит в урок оживление, активизирует деятельность детей. Однако, роль учителя и учебника при этом не уменьшается. Нельзя увлекаться компьютерными ресурсами, перенасыщение не принесет пользы. Дети от этого тоже устают и требуют живого человеческого общ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ажнейшей стратегической задачей развития российской школы является разработка и внедрение в педагогическую практику информационных технологий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920" y="428760"/>
            <a:ext cx="868680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цесс информатизации образования, который является одновременно основным требованием и результатом развития современного общества, ставит перед каждым учителем новые задач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владеть навыками работы с компьютерной техникой и методикой применения компьютера как средства обучени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риентироваться в возросшем потоке информации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меть находить, перерабатывать и использовать информацию с помощью ИК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356840"/>
            <a:ext cx="8686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    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ирование и совершенствование языковых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выков умений чтения, письма, говорения,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удирова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      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сширение активного и пассивного словаре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      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обретение культурологических знан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      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ирование культуры общ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      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ирование элементов глобального мышл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      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ирование устойчивой мотивации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знавательной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еятельности,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      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требности к использованию иностранного языка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целей подлинного общен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•      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ирование навыков работы в групп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71680" y="155412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реализации этих задач в своей педагогической деятельности я использую следующие компьютерные программы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     </a:t>
            </a: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Microsoft Wor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     </a:t>
            </a: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Microsoft Internet Explor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     </a:t>
            </a:r>
            <a:r>
              <a:rPr b="0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Microsoft Power Poi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     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мпьютерные обучающие программ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49120" y="60480"/>
            <a:ext cx="8888400" cy="1523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кономия времени и места. Слайды не занимают много места при хранении, а также не тускнеют с течением времени - ими можно пользоваться сколь угодно долго, редактировать, подстраивать под каждый класс, в зависимости от уровня обученност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пользование презентаций – это более быстрый темп урока, заинтересованность учащихся. Еще большую увлечённость можно вызвать, предложив некоторым ученикам под своим руководством подготовить презентацию к уроку, помочь в подборке материала и иллюстрац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 разработке уроков  аудирования уже не стоит проблема раздаточного материала. Её можно решить с помощью мультимедийных презентаций. Содержание которых может быть различным: подсказка, дополнительная информация, текстовые задания, диаграммы, таблицы.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рок в форме лекции имеет главной целью не иллюстрировать, а зрительно дать сложный материал для записи учащимся в удобной форме. 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глядность также обеспечивает мотивацию при обучении иностранному языку. Используя Интернет - ресурсы, можно быстро найти нужный страноведческий материал, адаптировать его под уровень обученности класса, и разговор о культуре и архитектуре страны или города уже не является абстрактным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оме того, учебники имеют невзрачные мелкие иллюстрации, в сравнении с ними презентации  выигрывают в яркости, выразительности, создают иллюзию пребывания в стране изучаемого язы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0:11:31Z</dcterms:created>
  <dc:creator>Kab45</dc:creator>
  <dc:description/>
  <dc:language>en-US</dc:language>
  <cp:lastModifiedBy>Kab45</cp:lastModifiedBy>
  <dcterms:modified xsi:type="dcterms:W3CDTF">2012-03-27T06:33:51Z</dcterms:modified>
  <cp:revision>36</cp:revision>
  <dc:subject/>
  <dc:title>Слайд 1</dc:title>
</cp:coreProperties>
</file>