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D01-1B09-407D-84D0-13D4055E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6B6-27D5-4651-9421-0E9474E2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0D-C613-49EB-8AFB-EEFE5AC1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11A-A16E-431B-B657-E4079510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6AA-5045-4DD0-9CCD-4BF675AC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53D0-C653-4644-BA99-3BD4B065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136E-BD41-4518-9307-49F65B8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071-4CBD-4049-B0FA-10B7D67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6F8-2F8F-4758-825A-1AA11DF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5F37-0AB2-45BA-973E-DD3678A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2B74-9EBF-4FA2-8B95-A6D92D8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B1D-C5B5-40E8-B065-03EF7881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D6A-4D9A-47A1-B496-DE50AF7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20D-3B85-4927-896D-063C64BA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231-DC69-4E42-BEBA-73617FFB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8BC4-9157-44EF-B7CB-6DAB065D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9173-9F10-436D-8E9A-53D3AB9D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291-E7C7-4EBB-912A-4CEF9531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EC0-983A-42B6-BB00-4FF5AF60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B39-D8B4-481F-9ED0-E3E52F9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BEA-DCC9-4C50-9EE5-91F88F2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6D2-8526-4748-A903-9DB991DC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DA6-B6B5-496F-858A-486FD6B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F2E-208D-4BEA-923A-FDA6784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6020-CAD9-4FCE-9297-B5E9ED3E89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CA42-FC0D-4BF8-A38C-DAFB092CB8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4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ворчество учителя </a:t>
            </a:r>
            <a:br>
              <a:rPr sz="3600"/>
            </a:b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в творчестве учеников </a:t>
            </a:r>
            <a:br>
              <a:rPr sz="3600"/>
            </a:b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на уроках английского языка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пецифической особенностью иностранного языка как учебного предмета является сформированное к нему негативное, субъективное отношение людей как к очень трудному, практически не поддающемуся в условиях школьного обучения овладению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учителя иностранных языков сетуют на то, что в процессе обучения желание изучать язык постепенно уменьшае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96472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Как же сделать так, чтобы при первой же встрече с трудностями желание заниматься языком не угасало?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 ответы нужно искать в мотивационной сфере личности уче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отив – это основа всей человеческой деятельности, в том числе и учеб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а учителя заключается в том, чтобы, грамотно использовать своё творчество для достижения высокой успешности по свое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Творчество учащихся зависит от творчества учител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686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труд не творческим не бывает, и быть не может, ибо неповторимы дети, обстоятельства, личность самого учителя, и любое педагогическое решение должно исходить из этих всегда нестандартных факт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сли же действия человека, работающего с детьми, не учитывают этих особенностей, то его труд лежит уже за гранью того, что называется словом “педагогический”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М.М. Поташни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Изображение 078"/>
          <p:cNvPicPr/>
          <p:nvPr/>
        </p:nvPicPr>
        <p:blipFill>
          <a:blip r:embed="rId1"/>
          <a:stretch/>
        </p:blipFill>
        <p:spPr>
          <a:xfrm>
            <a:off x="2916360" y="3825720"/>
            <a:ext cx="4037040" cy="303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авными признаками творчества являютс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75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здание нового или существенное усовершенствование известног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игинальность, неповторимость продукта деятельности, ее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заимосвязь творчества и самотворчества, самосозидание, то есть творческий человек постоянно работает над собой, над созданием нов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Изображение 082"/>
          <p:cNvPicPr/>
          <p:nvPr/>
        </p:nvPicPr>
        <p:blipFill>
          <a:blip r:embed="rId1"/>
          <a:stretch/>
        </p:blipFill>
        <p:spPr>
          <a:xfrm>
            <a:off x="4572000" y="1484280"/>
            <a:ext cx="4572000" cy="34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	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Творческий учитель – “это тот, кто открывает, умудряет, и ободряет” (Н. Рерих)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3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Творчеств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– деятельность людей, преобразующая природный и социальный мир в соответствии с целями и потребностями человека на основе объективных законов реальной действи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ая деятельность – это проявление постоянного разностороннего творч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106960" y="2327400"/>
            <a:ext cx="4037040" cy="453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6:19:15Z</dcterms:created>
  <dc:creator>Оксана</dc:creator>
  <dc:description/>
  <dc:language>en-US</dc:language>
  <cp:lastModifiedBy>Сергей</cp:lastModifiedBy>
  <dcterms:modified xsi:type="dcterms:W3CDTF">2012-10-27T15:11:36Z</dcterms:modified>
  <cp:revision>12</cp:revision>
  <dc:subject/>
  <dc:title>Творчество учащихся </dc:title>
</cp:coreProperties>
</file>