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3E2-99D4-444C-8815-8C769345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E18-26FC-40FF-8EB7-BBE1F48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0CA-8B21-4BDE-8D0D-C6564FCC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85C-99B6-48D8-9B19-61B46C63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AE59-896E-4A1B-B19F-6B575879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ADF-AD21-4394-AFFE-7C55F046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754-EEEF-4B92-99DD-115B8540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C6D0-B3DC-474D-831A-C3C6C20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BC48-2EEB-4095-93C9-CCEE1F7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A834-76AA-4752-AEC5-5064EE34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D455-F493-4560-B450-059D6939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23F-CE2B-4C35-A662-68E79224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40CF-9763-4484-AA26-4D8BEAAD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8F01-D0F3-48C9-8C2E-36E058D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9CDE-15F7-4910-8311-8E01583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930C-FD8D-4C6B-A378-6D642C3F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B5B7-039E-4B63-BD27-156DD817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1D5-8233-4D56-9752-8A907195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0BC-6E91-4A2C-B203-6DE42044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576-00E3-4CC8-88AB-DFB5544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6FD-BCAE-47F8-98CE-6476FD3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D28-2BF3-450C-8B43-FF201C2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501-E4C4-49D4-A2CC-6C5B93E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5B6-5C5C-43A8-B27A-20379B29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690-A376-4CE6-9376-AA7B4183F5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7609-26C8-48AE-ADB3-9A3FC214BF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sska.com/uploads/posts/2011-07/1310216028_dlia-skolnik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Использование игр –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один из приемов повышения интереса учащихся к уроку иностранного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115560"/>
            <a:ext cx="8001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гра – организованное занятие, требующее напряжения эмоциональных и умственных си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230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Diagram 14"/>
          <p:cNvGrpSpPr/>
          <p:nvPr/>
        </p:nvGrpSpPr>
        <p:grpSpPr>
          <a:xfrm>
            <a:off x="5431680" y="2737440"/>
            <a:ext cx="2259720" cy="2039040"/>
            <a:chOff x="5431680" y="2737440"/>
            <a:chExt cx="2259720" cy="2039040"/>
          </a:xfrm>
        </p:grpSpPr>
        <p:sp>
          <p:nvSpPr>
            <p:cNvPr id="120" name="_s2052"/>
            <p:cNvSpPr/>
            <p:nvPr/>
          </p:nvSpPr>
          <p:spPr>
            <a:xfrm>
              <a:off x="5431680" y="3308760"/>
              <a:ext cx="1403280" cy="1467720"/>
            </a:xfrm>
            <a:prstGeom prst="donut">
              <a:avLst>
                <a:gd name="adj" fmla="val 16666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3"/>
            <p:cNvSpPr/>
            <p:nvPr/>
          </p:nvSpPr>
          <p:spPr>
            <a:xfrm>
              <a:off x="7317000" y="3389400"/>
              <a:ext cx="374400" cy="3258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фантаз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4"/>
            <p:cNvSpPr/>
            <p:nvPr/>
          </p:nvSpPr>
          <p:spPr>
            <a:xfrm>
              <a:off x="5664600" y="3552480"/>
              <a:ext cx="935640" cy="978120"/>
            </a:xfrm>
            <a:prstGeom prst="donut">
              <a:avLst>
                <a:gd name="adj" fmla="val 250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5"/>
            <p:cNvSpPr/>
            <p:nvPr/>
          </p:nvSpPr>
          <p:spPr>
            <a:xfrm>
              <a:off x="7317000" y="3063600"/>
              <a:ext cx="374400" cy="325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зу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6"/>
            <p:cNvSpPr/>
            <p:nvPr/>
          </p:nvSpPr>
          <p:spPr>
            <a:xfrm>
              <a:off x="5899320" y="3798000"/>
              <a:ext cx="468000" cy="48888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7"/>
            <p:cNvSpPr/>
            <p:nvPr/>
          </p:nvSpPr>
          <p:spPr>
            <a:xfrm>
              <a:off x="7317000" y="2737440"/>
              <a:ext cx="374400" cy="3258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дсозн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Rectangle 31"/>
          <p:cNvSpPr/>
          <p:nvPr/>
        </p:nvSpPr>
        <p:spPr>
          <a:xfrm>
            <a:off x="5148360" y="4819680"/>
            <a:ext cx="3816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ей работают синхрон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33" descr="661314_w640_h640_kontroshka"/>
          <p:cNvPicPr/>
          <p:nvPr/>
        </p:nvPicPr>
        <p:blipFill>
          <a:blip r:embed="rId1"/>
          <a:stretch/>
        </p:blipFill>
        <p:spPr>
          <a:xfrm>
            <a:off x="0" y="1338120"/>
            <a:ext cx="4371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Использование игр на уроках иностранного языка способствует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владению языком в занимательной форм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звивает памя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има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образи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держивает интерес к иностранному язык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0_6d23f_3c81635c_XL"/>
          <p:cNvPicPr/>
          <p:nvPr/>
        </p:nvPicPr>
        <p:blipFill>
          <a:blip r:embed="rId1"/>
          <a:stretch/>
        </p:blipFill>
        <p:spPr>
          <a:xfrm>
            <a:off x="1332000" y="3360600"/>
            <a:ext cx="68389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52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азновидности игр на уроках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ексические иг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мматические иг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нетические иг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фографические иг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ворческие иг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гры по аудиро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Classroom_critics"/>
          <p:cNvPicPr/>
          <p:nvPr/>
        </p:nvPicPr>
        <p:blipFill>
          <a:blip r:embed="rId1"/>
          <a:stretch/>
        </p:blipFill>
        <p:spPr>
          <a:xfrm>
            <a:off x="5724360" y="3645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428004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Цели игр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учащихся понимать смысл однократного высказыв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делять главное в потоке информ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вать слуховую память учащих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f_14414700"/>
          <p:cNvPicPr/>
          <p:nvPr/>
        </p:nvPicPr>
        <p:blipFill>
          <a:blip r:embed="rId1"/>
          <a:stretch/>
        </p:blipFill>
        <p:spPr>
          <a:xfrm>
            <a:off x="4572000" y="600120"/>
            <a:ext cx="4572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218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…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игре человек испытывает такое же наслажд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 свободного обнаружения своих способностей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акое художник испытывает во время творчеств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. Шилле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6" descr="smiling-children-istock_000012073096large"/>
          <p:cNvPicPr/>
          <p:nvPr/>
        </p:nvPicPr>
        <p:blipFill>
          <a:blip r:embed="rId1"/>
          <a:stretch/>
        </p:blipFill>
        <p:spPr>
          <a:xfrm>
            <a:off x="1835280" y="2565360"/>
            <a:ext cx="57578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Главная задача учителя – добиваться того, чтобы у детей  не пропадал интерес к учению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5" descr="Картинка 39 из 973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708360" y="1773360"/>
            <a:ext cx="532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игр дает хорошие результат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 интерес учащихся к уро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сконцентрировать внима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ладение речевыми навык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во время иг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87280" y="333000"/>
            <a:ext cx="604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гры помогают дет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ть творческими личностям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ат творчески относиться к дел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гры принося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тям и взрослы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дость творчества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b2cd3a34c627"/>
          <p:cNvPicPr/>
          <p:nvPr/>
        </p:nvPicPr>
        <p:blipFill>
          <a:blip r:embed="rId1"/>
          <a:stretch/>
        </p:blipFill>
        <p:spPr>
          <a:xfrm>
            <a:off x="0" y="1901880"/>
            <a:ext cx="52545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0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Творчество заложено в детях самой природ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чиняю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ыдумываю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фантазирую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зображаю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еревоплощаю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Творческие игры сближают и взрослых и дет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1293973917_garipova2"/>
          <p:cNvPicPr/>
          <p:nvPr/>
        </p:nvPicPr>
        <p:blipFill>
          <a:blip r:embed="rId1"/>
          <a:stretch/>
        </p:blipFill>
        <p:spPr>
          <a:xfrm>
            <a:off x="3816360" y="1844640"/>
            <a:ext cx="53276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Diagram 14"/>
          <p:cNvGrpSpPr/>
          <p:nvPr/>
        </p:nvGrpSpPr>
        <p:grpSpPr>
          <a:xfrm>
            <a:off x="1044000" y="1106640"/>
            <a:ext cx="7194960" cy="4187520"/>
            <a:chOff x="1044000" y="1106640"/>
            <a:chExt cx="7194960" cy="4187520"/>
          </a:xfrm>
        </p:grpSpPr>
        <p:sp>
          <p:nvSpPr>
            <p:cNvPr id="97" name="_s1028"/>
            <p:cNvSpPr/>
            <p:nvPr/>
          </p:nvSpPr>
          <p:spPr>
            <a:xfrm>
              <a:off x="3733200" y="1701720"/>
              <a:ext cx="1816560" cy="1701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46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3733200" y="1106640"/>
              <a:ext cx="18165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самовыраж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_s1030"/>
            <p:cNvSpPr/>
            <p:nvPr/>
          </p:nvSpPr>
          <p:spPr>
            <a:xfrm>
              <a:off x="4424760" y="2349360"/>
              <a:ext cx="1816560" cy="170208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46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6422400" y="2987640"/>
              <a:ext cx="1816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амоопредел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>
              <a:off x="3733200" y="2997000"/>
              <a:ext cx="1816560" cy="170208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3733200" y="4869000"/>
              <a:ext cx="18165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амопроверк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3042000" y="2349360"/>
              <a:ext cx="1816560" cy="17020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46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1044000" y="2987640"/>
              <a:ext cx="1816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амоосуществл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Rectangle 24"/>
          <p:cNvSpPr/>
          <p:nvPr/>
        </p:nvSpPr>
        <p:spPr>
          <a:xfrm>
            <a:off x="3203640" y="477720"/>
            <a:ext cx="57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гра - сфер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Игра помогает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рректирова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лучша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вива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детях важные психологические свой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deti_ucheb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53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x_3902367e"/>
          <p:cNvPicPr/>
          <p:nvPr/>
        </p:nvPicPr>
        <p:blipFill>
          <a:blip r:embed="rId2"/>
          <a:stretch/>
        </p:blipFill>
        <p:spPr>
          <a:xfrm>
            <a:off x="324000" y="3645000"/>
            <a:ext cx="3333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Игра для детей – увлекательное занят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игре все рав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на посильна даже слабым ученик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увство равен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тмосфера увлеч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щущение посильности зад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гра благотворно сказывается на результатах обу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otator-parties_476x357"/>
          <p:cNvPicPr/>
          <p:nvPr/>
        </p:nvPicPr>
        <p:blipFill>
          <a:blip r:embed="rId1"/>
          <a:stretch/>
        </p:blipFill>
        <p:spPr>
          <a:xfrm>
            <a:off x="5076720" y="3645000"/>
            <a:ext cx="3443400" cy="258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32687"/>
          <p:cNvPicPr/>
          <p:nvPr/>
        </p:nvPicPr>
        <p:blipFill>
          <a:blip r:embed="rId2"/>
          <a:stretch/>
        </p:blipFill>
        <p:spPr>
          <a:xfrm>
            <a:off x="684360" y="3627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Игра способствует выполнению 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ледующих методических задач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ние психологической готовности детей к речевому общению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беспечение естественной необходимости многократного повторения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тренировка учащихся в выборе нужного речевого вариан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092811_rg_iWood_02"/>
          <p:cNvPicPr/>
          <p:nvPr/>
        </p:nvPicPr>
        <p:blipFill>
          <a:blip r:embed="rId1"/>
          <a:stretch/>
        </p:blipFill>
        <p:spPr>
          <a:xfrm>
            <a:off x="3059280" y="3645000"/>
            <a:ext cx="536400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2:45:42Z</dcterms:created>
  <dc:creator>1</dc:creator>
  <dc:description/>
  <dc:language>en-US</dc:language>
  <cp:lastModifiedBy>Сергей</cp:lastModifiedBy>
  <dcterms:modified xsi:type="dcterms:W3CDTF">2012-10-27T15:12:16Z</dcterms:modified>
  <cp:revision>6</cp:revision>
  <dc:subject/>
  <dc:title>Использование игр –  один из приемов повышения интереса учащихся к уроку иностранного языка</dc:title>
</cp:coreProperties>
</file>